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omb.wav" ContentType="audio/x-wav"/>
  <Override PartName="/ppt/media/coin.wav" ContentType="audio/x-wav"/>
  <Override PartName="/ppt/media/image18.gif" ContentType="image/gif"/>
  <Override PartName="/ppt/media/image20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21.gif" ContentType="image/gif"/>
  <Override PartName="/ppt/media/image1.png" ContentType="image/png"/>
  <Override PartName="/ppt/media/image14.jpeg" ContentType="image/jpeg"/>
  <Override PartName="/ppt/media/image19.gif" ContentType="image/gif"/>
  <Override PartName="/ppt/media/type.wav" ContentType="audio/x-wav"/>
  <Override PartName="/ppt/media/image17.png" ContentType="image/png"/>
  <Override PartName="/ppt/media/image22.png" ContentType="image/png"/>
  <Override PartName="/ppt/media/image6.png" ContentType="image/png"/>
  <Override PartName="/ppt/media/image23.png" ContentType="image/png"/>
  <Override PartName="/ppt/media/applause.wav" ContentType="audio/x-wav"/>
  <Override PartName="/ppt/media/image5.png" ContentType="image/png"/>
  <Override PartName="/ppt/media/whoosh.wav" ContentType="audio/x-wav"/>
  <Override PartName="/ppt/media/image4.png" ContentType="image/png"/>
  <Override PartName="/ppt/media/laser.wav" ContentType="audio/x-wav"/>
  <Override PartName="/ppt/media/image3.png" ContentType="image/png"/>
  <Override PartName="/ppt/media/image2.png" ContentType="image/png"/>
  <Override PartName="/ppt/media/image15.png" ContentType="image/png"/>
  <Override PartName="/ppt/media/drumroll.wav" ContentType="audio/x-wav"/>
  <Override PartName="/ppt/media/image16.png" ContentType="image/png"/>
  <Override PartName="/ppt/media/chimes.wav" ContentType="audio/x-wav"/>
  <Override PartName="/ppt/media/wind.wav" ContentType="audio/x-wav"/>
  <Override PartName="/ppt/media/voltag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E97B-6C31-49C3-AA99-937EC33B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27C9-1721-4EF9-8989-8A1DDE23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5009-9731-4563-ADA3-CF7C1F0B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12A3-3EB1-4520-A5F1-2EBCC7BB2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343D-3DFC-4759-918E-9186E5B8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65CA-80DC-4E21-BC3C-D40A1C22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A3E4-4A84-4B07-9E85-2DD5CF45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89FE-14DE-47B1-8361-B3BBD551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6354-9FA0-44AC-89CE-78307616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8C65-7C9D-4D7F-854E-8D7606E6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7F40-E35C-4B95-A497-30F460F9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B8AB-D10F-45F1-B64F-5C3625FD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FCC7-77AB-47DD-BF28-32B7AA7202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applause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audio" Target="../media/applause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drumroll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laser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audio" Target="../media/bomb.wav"/><Relationship Id="rId3" Type="http://schemas.openxmlformats.org/officeDocument/2006/relationships/audio" Target="../media/bomb.wav"/><Relationship Id="rId4" Type="http://schemas.openxmlformats.org/officeDocument/2006/relationships/audio" Target="../media/bomb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2436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بسم الله الرحمن الرحيم </a:t>
            </a:r>
            <a:br>
              <a:rPr sz="4400"/>
            </a:b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يسر </a:t>
            </a:r>
            <a:r>
              <a:rPr b="0" lang="ar-SA" sz="4400" spc="-1" strike="noStrike">
                <a:solidFill>
                  <a:srgbClr val="e15970"/>
                </a:solidFill>
                <a:latin typeface="Arial"/>
              </a:rPr>
              <a:t>مدرسة (فلة حجاج </a:t>
            </a:r>
            <a:r>
              <a:rPr b="0" lang="ar-SA" sz="4400" spc="-1" strike="noStrike">
                <a:solidFill>
                  <a:srgbClr val="e15970"/>
                </a:solidFill>
                <a:latin typeface="Wingdings"/>
                <a:ea typeface="Wingdings"/>
              </a:rPr>
              <a:t></a:t>
            </a:r>
            <a:r>
              <a:rPr b="0" lang="ar-SA" sz="4400" spc="-1" strike="noStrike">
                <a:solidFill>
                  <a:srgbClr val="e15970"/>
                </a:solidFill>
                <a:latin typeface="Arial"/>
              </a:rPr>
              <a:t>) الأهلية للبنات</a:t>
            </a: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 </a:t>
            </a:r>
            <a:br>
              <a:rPr sz="4400"/>
            </a:b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أن تعرض لكم </a:t>
            </a:r>
            <a:br>
              <a:rPr sz="4400"/>
            </a:b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برنامج</a:t>
            </a:r>
            <a:br>
              <a:rPr sz="4400"/>
            </a:br>
            <a:r>
              <a:rPr b="0" lang="ar-SA" sz="4400" spc="-1" strike="noStrike">
                <a:solidFill>
                  <a:srgbClr val="f0e500"/>
                </a:solidFill>
                <a:latin typeface="Arial"/>
              </a:rPr>
              <a:t>بعنوان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332000" y="404280"/>
            <a:ext cx="7812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جزى الله فلان 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ُ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جزا  الله خيرا فلا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الله جل و علا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الله جل و على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مسؤولية 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      مسئولي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شؤون 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         شئو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يتوضأ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         يتوضؤ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4365720"/>
            <a:ext cx="2087640" cy="2174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24360" y="907920"/>
            <a:ext cx="1528560" cy="552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995640" y="2060640"/>
            <a:ext cx="1528920" cy="552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140360" y="3068640"/>
            <a:ext cx="1528560" cy="552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4211640" y="4221000"/>
            <a:ext cx="1528920" cy="552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4284720" y="5373720"/>
            <a:ext cx="15285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200" spc="-1" strike="noStrike">
                <a:solidFill>
                  <a:srgbClr val="f0e500"/>
                </a:solidFill>
                <a:latin typeface="Arial"/>
              </a:rPr>
              <a:t>ســـــــؤال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ed1175"/>
                </a:solidFill>
                <a:latin typeface="Arial"/>
              </a:rPr>
              <a:t>ما هي أسباب الأخطاء الإملائية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 rtl="1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5000" spc="-1" strike="noStrike">
                <a:solidFill>
                  <a:srgbClr val="f0e500"/>
                </a:solidFill>
                <a:latin typeface="Arial"/>
              </a:rPr>
              <a:t>؟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627280" y="188640"/>
            <a:ext cx="61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80000"/>
              </a:lnSpc>
              <a:spcBef>
                <a:spcPts val="550"/>
              </a:spcBef>
              <a:buClr>
                <a:srgbClr val="f0e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0e500"/>
                </a:solidFill>
                <a:latin typeface="Arial"/>
              </a:rPr>
              <a:t>أسباب الأخطاء الإملائية </a:t>
            </a:r>
            <a:br>
              <a:rPr sz="2200"/>
            </a:br>
            <a:br>
              <a:rPr sz="22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ضعف السمع والبصر وعدم الرعاية الصحيحة والنفسي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2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لقدرة على التمييز بين الأصوات المتقارب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3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نسيان القاعدة الإملائية الضابط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4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لضعف في القراءة وعدم التدريب الكافي عليها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5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تدريس الإملاء على أنه طريقة اختبارية تقوم على اختبار التلميذ في كلمات صعبة بعيدة عن القاموس الكتابي للتلميذ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6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ربط الإملاء بفروع اللغة العربية. </a:t>
            </a:r>
            <a:br>
              <a:rPr sz="2500"/>
            </a:b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7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إهمال أسس التهجي السليم الذي يعتمد على العين والأذن واليد. </a:t>
            </a:r>
            <a:br>
              <a:rPr sz="2500"/>
            </a:b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8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تصويب الأخطاء مباشرة. </a:t>
            </a:r>
            <a:br>
              <a:rPr sz="2500"/>
            </a:b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9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لتصحيح التقليدي لأخطاء التلاميذ وعدم مشاركة التلميذ في تصحيح الأخطاء. </a:t>
            </a:r>
            <a:br>
              <a:rPr sz="2500"/>
            </a:br>
            <a:br>
              <a:rPr sz="2200"/>
            </a:br>
            <a:r>
              <a:rPr b="1" lang="ar-SA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4508640"/>
            <a:ext cx="20988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627280" y="188640"/>
            <a:ext cx="61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550"/>
              </a:spcBef>
              <a:buClr>
                <a:srgbClr val="f0e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0e500"/>
                </a:solidFill>
                <a:latin typeface="Arial"/>
              </a:rPr>
              <a:t>أسباب الأخطاء الإملائية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    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0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ستخدام اللهجات العامية في الإملاء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1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لسرعة في إملاء القطعة وعدم الوضوح وعدم النطق السليم للحروف والحركات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2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قلة التدريبات المصاحبة لكل درس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3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طول القطعة الإملائية مما يؤدي إلى التعب والوقوع في الخطأ الإملائي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4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لاهتمام بأخطاء التلاميذ الإملائي خارج  كراسات الإملاء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5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لتنويع في طرائق التدريس مما يؤدي إلى الملل والانصراف عن الدرس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6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إلمام بعض المعلمين بقواعد الإملاء إلماما كافيا ولا سيما في الهمزات والألف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اللين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7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ستخدام الوسائل المتنوعة في تدريس الإملاء ولا سيما البطاقات والسبورة الشخصية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والشرائح الشفافة.</a:t>
            </a:r>
            <a:br>
              <a:rPr sz="2500"/>
            </a:br>
            <a:br>
              <a:rPr sz="2500"/>
            </a:br>
            <a:br>
              <a:rPr sz="22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8360" y="4508640"/>
            <a:ext cx="20988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3628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2050920" y="404280"/>
            <a:ext cx="66470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0e500"/>
                </a:solidFill>
                <a:latin typeface="Arial"/>
              </a:rPr>
              <a:t>إن المتأمل في الأخطاء الإملائية الشائعة، يراها لا تخرج عن: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همزات في وسط الكلمة أو آخرها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ألف اللينة في آخر الكلمة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همزة الوصل والفصل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تاء المربوطة والتاء المفتوحة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5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لام الشمسية واللام القمرية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حروف التي تنطق لا تكتب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7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حروف التي تكتب ولا تنطق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8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خلط بين الأصوات المتشابهة أو الحروف المتشابهة رسماً.</a:t>
            </a:r>
            <a:br>
              <a:rPr sz="3000"/>
            </a:br>
            <a:endParaRPr b="0" lang="en-US" sz="3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230328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559640" cy="513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000" spc="-1" strike="noStrike">
                <a:solidFill>
                  <a:srgbClr val="f31127"/>
                </a:solidFill>
                <a:latin typeface="Arial"/>
              </a:rPr>
              <a:t>إذا ما هو العلاج ؟</a:t>
            </a:r>
            <a:endParaRPr b="0" lang="en-US" sz="7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110120" cy="5400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627280" y="2708280"/>
            <a:ext cx="2016000" cy="2952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2133720"/>
            <a:ext cx="574560" cy="10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24000" y="188640"/>
            <a:ext cx="4762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31127"/>
                </a:solidFill>
                <a:latin typeface="Arial"/>
              </a:rPr>
              <a:t>للمعلم نقول 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أن يحسن المعلم اختيار القطع الإملائية بحيث تتناسب مع مستوى التلاميذ وتخدم أهدافا متعددة: دينية وتربوية ولغو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كثرة التدريبات والتطبيقات المختلفة على المهارات المطلوبة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أن يقرأ المعلم النص قراءة صحيحة واضحة لا غموض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تكليف التلاميذ بواجبات منزلية تتضمن مهارات مختلفة كأن يجمع التلميذ عشرين كلمة تنتهي بالتاء المربوطة وهكذا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عدم التهاون في عملية التصحيح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أن يعتني المعلم بتدريب تلاميذه على أصوات الحروف ولا سيما الحروف المتقاربة في مخارجها الصوتية وفي رسمها.</a:t>
            </a:r>
            <a:r>
              <a:rPr b="0" lang="ar-SA" sz="28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110120" cy="5400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627280" y="2708280"/>
            <a:ext cx="2016000" cy="2952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133720"/>
            <a:ext cx="574560" cy="10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24000" y="188640"/>
            <a:ext cx="4762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31127"/>
                </a:solidFill>
                <a:latin typeface="Arial"/>
              </a:rPr>
              <a:t>للطالب نقول 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أذن على حسن الإصغاء لمخارج الحرو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لسان على النطق الصحيح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يد المستمر على الكتاب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عين على الرؤية الصحيحة للكلم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جمع الكلمات الصعبة التي يشكو منها الطالب وكتابتها أكثر من مره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القراءة المستمرة بكافة أنواع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( مجلات – كتب – قصص – إعلانات ..الخ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هل تريد معرفة المزيد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سأصارحك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بأخطائي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الليلة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8243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708000" y="3715920"/>
            <a:ext cx="5111640" cy="1143000"/>
          </a:xfrm>
          <a:prstGeom prst="rect">
            <a:avLst/>
          </a:prstGeom>
          <a:solidFill>
            <a:srgbClr val="f0e500"/>
          </a:solidFill>
          <a:ln w="9360">
            <a:solidFill>
              <a:srgbClr val="ed1175"/>
            </a:solidFill>
            <a:miter/>
          </a:ln>
          <a:effectLst>
            <a:outerShdw dist="107932" dir="2700000" blurRad="0" rotWithShape="0">
              <a:srgbClr val="ed1175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d1175"/>
                </a:solidFill>
                <a:latin typeface="Arial"/>
                <a:cs typeface="DecoType Naskh Variants"/>
              </a:rPr>
              <a:t>المدرستو الئهلية  لبنات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4038480" cy="4083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3318000">
            <a:off x="4995360" y="2284200"/>
            <a:ext cx="1905120" cy="1025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56000" y="189000"/>
            <a:ext cx="3024000" cy="2376360"/>
          </a:xfrm>
          <a:prstGeom prst="wedgeEllipseCallout">
            <a:avLst>
              <a:gd name="adj1" fmla="val -35199"/>
              <a:gd name="adj2" fmla="val 96828"/>
            </a:avLst>
          </a:prstGeom>
          <a:solidFill>
            <a:srgbClr val="e3ebf1"/>
          </a:solidFill>
          <a:ln w="9360">
            <a:solidFill>
              <a:srgbClr val="ed11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94409a"/>
                </a:solidFill>
                <a:latin typeface="Arial"/>
              </a:rPr>
              <a:t>الجميع يقول لي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94409a"/>
                </a:solidFill>
                <a:latin typeface="Arial"/>
              </a:rPr>
              <a:t>خطك جميل ولكنه </a:t>
            </a:r>
            <a:r>
              <a:rPr b="1" lang="hi-IN" sz="2500" spc="-1" strike="noStrike">
                <a:solidFill>
                  <a:srgbClr val="f3192e"/>
                </a:solidFill>
                <a:latin typeface="Arial"/>
              </a:rPr>
              <a:t>غير مفهوم</a:t>
            </a:r>
            <a:r>
              <a:rPr b="1" lang="en-US" sz="2500" spc="-1" strike="noStrike">
                <a:solidFill>
                  <a:srgbClr val="94409a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94409a"/>
                </a:solidFill>
                <a:latin typeface="Arial"/>
              </a:rPr>
              <a:t>إذا أين الجمال ..؟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324320" cy="4505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df4f67"/>
                </a:solidFill>
                <a:latin typeface="Arial"/>
                <a:cs typeface="Al-Rashed Sayidty"/>
              </a:rPr>
              <a:t>ضعيفًُُُُُُُُ في الإملاء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218440" cy="575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H="1" flipV="1">
            <a:off x="684000" y="3716280"/>
            <a:ext cx="3744720" cy="2665440"/>
          </a:xfrm>
          <a:prstGeom prst="wedgeRoundRectCallout">
            <a:avLst>
              <a:gd name="adj1" fmla="val -48731"/>
              <a:gd name="adj2" fmla="val 72569"/>
              <a:gd name="adj3" fmla="val 16667"/>
            </a:avLst>
          </a:prstGeom>
          <a:solidFill>
            <a:srgbClr val="e3eb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0e5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هيا يا صديقي نحاول أن نصحح هذه الأخطاء الشائع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3" presetSubtype="28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40000" y="907560"/>
            <a:ext cx="388908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e3ebf1"/>
                </a:solidFill>
                <a:latin typeface="Arial"/>
              </a:rPr>
              <a:t>أين الخطأ  ؟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79640" y="4379400"/>
            <a:ext cx="505296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شربت ماء نقين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309708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applause.wav"/>
      </p:stSnd>
    </p:sndAc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769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769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6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7" dur="769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8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" dur="769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0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19640" y="274320"/>
            <a:ext cx="252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3ebf1"/>
                </a:solidFill>
                <a:latin typeface="Arial"/>
              </a:rPr>
              <a:t>الصواب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640" y="2479680"/>
            <a:ext cx="51120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56360" y="479520"/>
            <a:ext cx="2736720" cy="2301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73440" y="2492280"/>
            <a:ext cx="405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ffff"/>
                </a:solidFill>
                <a:latin typeface="Tahoma"/>
              </a:rPr>
              <a:t>شربت ماء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18840" y="2492280"/>
            <a:ext cx="209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ffff"/>
                </a:solidFill>
                <a:latin typeface="Tahoma"/>
              </a:rPr>
              <a:t>نـقـيا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700"/>
                            </p:stCondLst>
                            <p:childTnLst>
                              <p:par>
                                <p:cTn id="485" nodeType="afterEffect" fill="hold" presetClass="entr" presetID="5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300"/>
                            </p:stCondLst>
                            <p:childTnLst>
                              <p:par>
                                <p:cTn id="492" nodeType="afterEffect" fill="hold" presetClass="emph" presetID="3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9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7600"/>
                            </p:stCondLst>
                            <p:childTnLst>
                              <p:par>
                                <p:cTn id="495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96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97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8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63640" y="404640"/>
            <a:ext cx="3095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 baseline="-25000">
                <a:solidFill>
                  <a:srgbClr val="e3ebf1"/>
                </a:solidFill>
                <a:latin typeface="Arial"/>
                <a:cs typeface="Led Italic Font"/>
              </a:rPr>
              <a:t>أين الخطأ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3192480"/>
            <a:ext cx="7632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 المريض يشربو الدواء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 flipH="1" rot="1014600">
            <a:off x="824760" y="83628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3ebf1"/>
                </a:solidFill>
                <a:latin typeface="Arial"/>
                <a:cs typeface="Kufi Extended Outline"/>
              </a:rPr>
              <a:t>الصواب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6489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المريض  يشربُ الدوا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5280" y="4221000"/>
            <a:ext cx="201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ff"/>
                </a:solidFill>
                <a:latin typeface="Arial"/>
                <a:cs typeface="Simplified Arabic Fixed"/>
              </a:rPr>
              <a:t>يشرب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" y="4221000"/>
            <a:ext cx="876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</a:rPr>
              <a:t>الباء في يشرب مضمومة وليس بعدها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حرف وا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600"/>
                            </p:stCondLst>
                            <p:childTnLst>
                              <p:par>
                                <p:cTn id="528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018 -0.05202 L 0.00035 -0.31445 E">
                                      <p:cBhvr>
                                        <p:cTn id="529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4600"/>
                            </p:stCondLst>
                            <p:childTnLst>
                              <p:par>
                                <p:cTn id="531" nodeType="afterEffect" fill="hold" presetClass="emph" presetID="27" repeatCount="400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32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33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34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7600"/>
                            </p:stCondLst>
                            <p:childTnLst>
                              <p:par>
                                <p:cTn id="536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73440" y="295200"/>
            <a:ext cx="35272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3192e"/>
                </a:solidFill>
                <a:latin typeface="Arial"/>
              </a:rPr>
              <a:t>أين الخطأ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339640" y="1628280"/>
            <a:ext cx="6491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r" rtl="1">
              <a:lnSpc>
                <a:spcPct val="9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3500" spc="-1" strike="noStrike">
                <a:solidFill>
                  <a:srgbClr val="f0e500"/>
                </a:solidFill>
                <a:latin typeface="Arial"/>
              </a:rPr>
              <a:t>اشمس</a:t>
            </a:r>
            <a:endParaRPr b="0" lang="en-US" sz="1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54" nodeType="afterEffect" fill="hold" presetClass="entr" presetID="58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400"/>
                            </p:stCondLst>
                            <p:childTnLst>
                              <p:par>
                                <p:cTn id="56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6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37160" y="287280"/>
            <a:ext cx="402912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468a4b"/>
                </a:solidFill>
                <a:latin typeface="Arial"/>
              </a:rPr>
              <a:t>الصواب هو :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63280" y="1914120"/>
            <a:ext cx="548172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4200" spc="-1" strike="noStrike">
                <a:solidFill>
                  <a:srgbClr val="f0e500"/>
                </a:solidFill>
                <a:latin typeface="Arial"/>
              </a:rPr>
              <a:t>الشمس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566280" y="5661000"/>
            <a:ext cx="104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ccff"/>
                </a:solidFill>
                <a:latin typeface="Tahoma"/>
              </a:rPr>
              <a:t>لام ( أل ) الشمسية لاتظهر في النطق ,, ولكن تظهر في الكتاب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187344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applause.wav"/>
      </p:stSnd>
    </p:sndAc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ntr" presetID="38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000"/>
                            </p:stCondLst>
                            <p:childTnLst>
                              <p:par>
                                <p:cTn id="582" nodeType="afterEffect" fill="hold" presetClass="emph" presetID="8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83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8000"/>
                            </p:stCondLst>
                            <p:childTnLst>
                              <p:par>
                                <p:cTn id="5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03280" y="764640"/>
            <a:ext cx="237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e3ebf1"/>
                </a:solidFill>
                <a:latin typeface="Arial"/>
              </a:rPr>
              <a:t>أين الخطأ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137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65440" y="1914480"/>
            <a:ext cx="5121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700" spc="-1" strike="noStrike">
                <a:solidFill>
                  <a:srgbClr val="ffffff"/>
                </a:solidFill>
                <a:latin typeface="Arial"/>
              </a:rPr>
              <a:t>اللباقه</a:t>
            </a:r>
            <a:r>
              <a:rPr b="0" lang="ar-SA" sz="8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8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0" y="3860640"/>
            <a:ext cx="1512720" cy="15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500"/>
                            </p:stCondLst>
                            <p:childTnLst>
                              <p:par>
                                <p:cTn id="610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8200"/>
                            </p:stCondLst>
                            <p:childTnLst>
                              <p:par>
                                <p:cTn id="617" nodeType="afterEffect" fill="remove" presetClass="emph" presetID="33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animClr clrSpc="rgb">
                                      <p:cBhvr>
                                        <p:cTn id="61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set>
                                      <p:cBhvr>
                                        <p:cTn id="620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2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700"/>
                            </p:stCondLst>
                            <p:childTnLst>
                              <p:par>
                                <p:cTn id="6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1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e3ebf1"/>
                </a:solidFill>
                <a:latin typeface="Arial"/>
              </a:rPr>
              <a:t>هل عرفت الخطأ ؟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635280" y="1599840"/>
            <a:ext cx="5051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d1175"/>
                </a:solidFill>
                <a:latin typeface="Arial"/>
              </a:rPr>
              <a:t> </a:t>
            </a:r>
            <a:r>
              <a:rPr b="0" lang="ar-SA" sz="5400" spc="-1" strike="noStrike">
                <a:solidFill>
                  <a:srgbClr val="ed1175"/>
                </a:solidFill>
                <a:latin typeface="Arial"/>
              </a:rPr>
              <a:t>نعم ياأبطال كما قلت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41720" y="3490920"/>
            <a:ext cx="43336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900" spc="-1" strike="noStrike">
                <a:solidFill>
                  <a:srgbClr val="f0e500"/>
                </a:solidFill>
                <a:latin typeface="Tahoma"/>
              </a:rPr>
              <a:t>اللباقة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04920" y="5881680"/>
            <a:ext cx="53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ccff"/>
                </a:solidFill>
                <a:latin typeface="Tahoma"/>
              </a:rPr>
              <a:t>التاء المربوطة عليها نقطت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1871640" cy="158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500"/>
                            </p:stCondLst>
                            <p:childTnLst>
                              <p:par>
                                <p:cTn id="661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9000"/>
                            </p:stCondLst>
                            <p:childTnLst>
                              <p:par>
                                <p:cTn id="678" nodeType="afterEffect" fill="hold" presetClass="entr" presetID="56">
                                  <p:stCondLst>
                                    <p:cond delay="2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97960" y="404640"/>
            <a:ext cx="61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Tahoma"/>
              </a:rPr>
              <a:t>والآن خذوا هذه الجملة الخاطئة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37080" y="1268280"/>
            <a:ext cx="487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</a:rPr>
              <a:t>واستخرجوا الخطأ منها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77240" y="3141720"/>
            <a:ext cx="515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</a:rPr>
              <a:t>كتبت بلقلم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201456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6000"/>
                            </p:stCondLst>
                            <p:childTnLst>
                              <p:par>
                                <p:cTn id="703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100"/>
                            </p:stCondLst>
                            <p:childTnLst>
                              <p:par>
                                <p:cTn id="713" nodeType="afterEffect" fill="hold" presetClass="path" presetID="41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animMotion origin="layout" path="M 0 0 C -0.004 -0.01067 -0.018 -0.02133 -0.023 -0.02133 C -0.054 -0.02133 -0.086 0.14534 -0.086 0.312 C -0.086 0.228 -0.102 0.14533 -0.117 0.14533 C -0.133 0.14533 -0.148 0.22933 -0.148 0.312 C -0.148 0.27067 -0.156 0.228 -0.164 0.228 C -0.172 0.228 -0.18 0.26933 -0.18 0.312 C -0.18 0.29067 -0.184 0.27067 -0.188 0.27067 C -0.192 0.27067 -0.196 0.292 -0.196 0.312 C -0.196 0.30133 -0.198 0.29067 -0.2 0.29067 C -0.201 0.29067 -0.204 0.30134 -0.204 0.312 C -0.204 0.30667 -0.205 0.30133 -0.206 0.30133 C -0.206 0.3 -0.208 0.30666 -0.208 0.312 C -0.208 0.30933 -0.208 0.30667 -0.209 0.30667 C -0.209 0.308 -0.21 0.30934 -0.21 0.312 C -0.21 0.31067 -0.21 0.30933 -0.21 0.308 C -0.211 0.308 -0.211 0.30933 -0.211 0.31067 C -0.212 0.31067 -0.212 0.30934 -0.212 0.308 C -0.213 0.308 -0.213 0.30933 -0.213 0.31067 E">
                                      <p:cBhvr>
                                        <p:cTn id="714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3192e"/>
                </a:solidFill>
                <a:latin typeface="Arial"/>
              </a:rPr>
              <a:t>ماذا يجب أن تعرف </a:t>
            </a:r>
            <a:br>
              <a:rPr sz="6000"/>
            </a:br>
            <a:r>
              <a:rPr b="1" lang="hi-IN" sz="6000" spc="-1" strike="noStrike">
                <a:solidFill>
                  <a:srgbClr val="f3192e"/>
                </a:solidFill>
                <a:latin typeface="Arial"/>
              </a:rPr>
              <a:t>قبل أن نبـــدأ </a:t>
            </a:r>
            <a:br>
              <a:rPr sz="6000"/>
            </a:br>
            <a:r>
              <a:rPr b="1" lang="hi-IN" sz="13600" spc="-1" strike="noStrike">
                <a:solidFill>
                  <a:srgbClr val="f3192e"/>
                </a:solidFill>
                <a:latin typeface="Arial"/>
              </a:rPr>
              <a:t>؟</a:t>
            </a:r>
            <a:endParaRPr b="0" lang="en-US" sz="136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68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68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37680" y="693720"/>
            <a:ext cx="58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هل عرفتم الصواب ياأبطال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51480" y="2662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89000"/>
            <a:ext cx="2736720" cy="1655640"/>
          </a:xfrm>
          <a:prstGeom prst="irregularSeal1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57880" y="2205000"/>
            <a:ext cx="86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</a:rPr>
              <a:t>كلامكم صحيح ,, وتكون الكلمة كالآتي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44560" y="3284640"/>
            <a:ext cx="37317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700" spc="-1" strike="noStrike">
                <a:solidFill>
                  <a:srgbClr val="ffffff"/>
                </a:solidFill>
                <a:latin typeface="Tahoma"/>
              </a:rPr>
              <a:t>بالقلم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5013360"/>
            <a:ext cx="1407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420120" y="5516640"/>
            <a:ext cx="1026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كلمة القلم مبدوءة ب ( أل ) القمرية وسبقتها الباء ,, فلا يحذ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شئ من الكلم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950"/>
                            </p:stCondLst>
                            <p:childTnLst>
                              <p:par>
                                <p:cTn id="726" nodeType="after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8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456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56" autoRev="1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7950"/>
                            </p:stCondLst>
                            <p:childTnLst>
                              <p:par>
                                <p:cTn id="734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9450"/>
                            </p:stCondLst>
                            <p:childTnLst>
                              <p:par>
                                <p:cTn id="741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animClr clrSpc="rgb">
                                      <p:cBhvr>
                                        <p:cTn id="743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744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1450"/>
                            </p:stCondLst>
                            <p:childTnLst>
                              <p:par>
                                <p:cTn id="7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8150"/>
                            </p:stCondLst>
                            <p:childTnLst>
                              <p:par>
                                <p:cTn id="753" nodeType="afterEffect" fill="remove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4" dur="5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25960" y="692280"/>
            <a:ext cx="58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PT Bold Broken"/>
              </a:rPr>
              <a:t>أنظروا إلى الخطأ التالي :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Simplified Arabic Fixe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792000" y="2421000"/>
            <a:ext cx="108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0000"/>
                </a:solidFill>
                <a:latin typeface="Tahoma"/>
                <a:cs typeface="DecoType Naskh"/>
              </a:rPr>
              <a:t>انطلقت الكرة كـلصاروخ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9360" y="4635360"/>
            <a:ext cx="52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PT Bold Broken"/>
              </a:rPr>
              <a:t>من الذي منكم أكتشفه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Microsoft Sans Serif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16000" y="907920"/>
            <a:ext cx="50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71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6400"/>
                            </p:stCondLst>
                            <p:childTnLst>
                              <p:par>
                                <p:cTn id="778" nodeType="afterEffect" fill="hold" presetClass="entr" presetID="56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300720" y="206064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45160" y="765000"/>
            <a:ext cx="31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9900"/>
                </a:solidFill>
                <a:latin typeface="Arial"/>
                <a:cs typeface="Microsoft Sans Serif"/>
              </a:rPr>
              <a:t>كلامكم صحي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59880" y="1773360"/>
            <a:ext cx="62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  <a:ea typeface="Microsoft Sans Serif"/>
              </a:rPr>
              <a:t>  أين اللام في كلمة الصارو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2305080" cy="2187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851120" y="3068640"/>
            <a:ext cx="79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 u="sng">
                <a:solidFill>
                  <a:srgbClr val="0066ff"/>
                </a:solidFill>
                <a:uFillTx/>
                <a:latin typeface="Arial"/>
                <a:cs typeface="Microsoft Sans Serif"/>
              </a:rPr>
              <a:t>وتكون الجملة بعد تصحيحها كالتالي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424720" cy="23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11840" y="4483080"/>
            <a:ext cx="1843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4581360"/>
            <a:ext cx="69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ea typeface="DecoType Naskh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DecoType Naskh"/>
              </a:rPr>
              <a:t>انطلقت الكرة كــا  صاروخ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1480" y="458136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ff"/>
                </a:solidFill>
                <a:latin typeface="Arial"/>
                <a:cs typeface="DecoType Naskh"/>
              </a:rPr>
              <a:t>لــــ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540"/>
                            </p:stCondLst>
                            <p:childTnLst>
                              <p:par>
                                <p:cTn id="7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3540"/>
                            </p:stCondLst>
                            <p:childTnLst>
                              <p:par>
                                <p:cTn id="802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7040"/>
                            </p:stCondLst>
                            <p:childTnLst>
                              <p:par>
                                <p:cTn id="8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840"/>
                            </p:stCondLst>
                            <p:childTnLst>
                              <p:par>
                                <p:cTn id="8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2840"/>
                            </p:stCondLst>
                            <p:childTnLst>
                              <p:par>
                                <p:cTn id="8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8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7880"/>
                            </p:stCondLst>
                            <p:childTnLst>
                              <p:par>
                                <p:cTn id="848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84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45440" cy="57531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d1175"/>
                </a:solidFill>
                <a:latin typeface="Hacen Sudan Bd"/>
                <a:cs typeface="Hacen Sudan Bd"/>
              </a:rPr>
              <a:t>أخيراً </a:t>
            </a:r>
            <a:br>
              <a:rPr sz="4000"/>
            </a:br>
            <a:r>
              <a:rPr b="1" lang="hi-IN" sz="4000" spc="-1" strike="noStrike">
                <a:solidFill>
                  <a:srgbClr val="ed1175"/>
                </a:solidFill>
                <a:latin typeface="Hacen Sudan Bd"/>
                <a:cs typeface="Hacen Sudan Bd"/>
              </a:rPr>
              <a:t>يا صديقتي</a:t>
            </a:r>
            <a:r>
              <a:rPr b="1" lang="en-US" sz="5000" spc="-1" strike="noStrike">
                <a:solidFill>
                  <a:srgbClr val="ed1175"/>
                </a:solidFill>
                <a:latin typeface="Hacen Sudan Bd"/>
                <a:ea typeface="Hacen Sudan Bd"/>
              </a:rPr>
              <a:t> </a:t>
            </a:r>
            <a:endParaRPr b="0" lang="en-US" sz="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492360" y="404280"/>
            <a:ext cx="548352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ccff"/>
                </a:solidFill>
                <a:latin typeface="Arial"/>
              </a:rPr>
              <a:t>خطو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d1175"/>
                </a:solidFill>
                <a:latin typeface="Arial"/>
              </a:rPr>
              <a:t>فـخطوة</a:t>
            </a: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ff33"/>
                </a:solidFill>
                <a:latin typeface="Arial"/>
              </a:rPr>
              <a:t>نحــو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0e500"/>
                </a:solidFill>
                <a:latin typeface="Arial"/>
              </a:rPr>
              <a:t>خــط جميل ورائــ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ccff"/>
                </a:solidFill>
                <a:latin typeface="Arial"/>
              </a:rPr>
              <a:t>خـــالي من </a:t>
            </a:r>
            <a:r>
              <a:rPr b="1" lang="hi-IN" sz="4000" spc="-1" strike="noStrike">
                <a:solidFill>
                  <a:srgbClr val="f3192e"/>
                </a:solidFill>
                <a:latin typeface="Arial"/>
              </a:rPr>
              <a:t>الأخطاء</a:t>
            </a: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 الإملائية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93800" y="1700280"/>
            <a:ext cx="31399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8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24000" y="981000"/>
            <a:ext cx="4762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df4f67"/>
                </a:solidFill>
                <a:latin typeface="Hacen Sudan Bd"/>
                <a:cs typeface="Hacen Sudan Bd"/>
              </a:rPr>
              <a:t>شاكرين لكم حسن انتباهكم 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ومتمنين لكم حياة دراسية بدون أخطاء إملائية </a:t>
            </a:r>
            <a:r>
              <a:rPr b="1" lang="ar-SA" sz="3000" spc="-1" strike="noStrike">
                <a:solidFill>
                  <a:srgbClr val="66ccff"/>
                </a:solidFill>
                <a:latin typeface="Wingdings"/>
                <a:ea typeface="Wingdings"/>
              </a:rPr>
              <a:t></a:t>
            </a:r>
            <a:r>
              <a:rPr b="1" lang="ar-SA" sz="3000" spc="-1" strike="noStrike">
                <a:solidFill>
                  <a:srgbClr val="66ccff"/>
                </a:solidFill>
                <a:latin typeface="Hacen Sudan Bd"/>
                <a:ea typeface="Hacen Sudan Bd"/>
              </a:rPr>
              <a:t> 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df4f67"/>
                </a:solidFill>
                <a:latin typeface="Hacen Sudan Bd"/>
                <a:cs typeface="Hacen Sudan Bd"/>
              </a:rPr>
              <a:t>مع تحيات المعلمة /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عجايب بنت الشايب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زعيمة مضيف فلة حجاج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وعدوة الشيبان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3197160" cy="4105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55640" y="5516640"/>
            <a:ext cx="280836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mmr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5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5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5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5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5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5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5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5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d1175"/>
                </a:solidFill>
                <a:latin typeface="Arial"/>
              </a:rPr>
              <a:t>الإملاء الصحيح مهم في حياتنا 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0560" y="1341000"/>
            <a:ext cx="66358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تظهرُ اهمية الإملاء في اللغة من كونهِ يؤدي وظيفتهِ اللغوية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بالتوفيق بين القراءةِ والكتابـة ، عن طريق رسم الحروف وترتيبها ، لتركيب الكلمات والجمل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بشكل يؤدي الى فهم المعاني . . .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فإن كانت القواعد النحويــة والضوابط الصرفيـة وسيلة الى صحة الكتابة من النواحي الاعرابية والاشتقاقية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فالإملاء وسيلــة الى صحتها من حيث الصورة الخطيّـة لتؤدي مهمتها في الفهم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5373720"/>
            <a:ext cx="1657080" cy="1233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d1175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341000"/>
            <a:ext cx="8208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f0e500"/>
                </a:solidFill>
                <a:latin typeface="Arial"/>
              </a:rPr>
              <a:t>هل تعلم ..</a:t>
            </a:r>
            <a:r>
              <a:rPr b="0" lang="en-US" sz="4000" spc="-1" strike="noStrike">
                <a:solidFill>
                  <a:srgbClr val="ed1175"/>
                </a:solidFill>
                <a:latin typeface="Arial"/>
              </a:rPr>
              <a:t> </a:t>
            </a:r>
            <a:br>
              <a:rPr sz="4000"/>
            </a:br>
            <a:r>
              <a:rPr b="0" lang="hi-IN" sz="4000" spc="-1" strike="noStrike">
                <a:solidFill>
                  <a:srgbClr val="ed1175"/>
                </a:solidFill>
                <a:latin typeface="Arial"/>
              </a:rPr>
              <a:t>أنك قد تتعرض لمشاكل</a:t>
            </a:r>
            <a:br>
              <a:rPr sz="4000"/>
            </a:br>
            <a:r>
              <a:rPr b="0" lang="en-US" sz="4000" spc="-1" strike="noStrike">
                <a:solidFill>
                  <a:srgbClr val="ed1175"/>
                </a:solidFill>
                <a:latin typeface="Arial"/>
              </a:rPr>
              <a:t> </a:t>
            </a:r>
            <a:r>
              <a:rPr b="1" lang="hi-IN" sz="8000" spc="-1" strike="noStrike">
                <a:solidFill>
                  <a:srgbClr val="f3192e"/>
                </a:solidFill>
                <a:latin typeface="Arial"/>
                <a:cs typeface="Bader"/>
              </a:rPr>
              <a:t>خطيــــرة</a:t>
            </a:r>
            <a:br>
              <a:rPr sz="8000"/>
            </a:br>
            <a:r>
              <a:rPr b="0" lang="hi-IN" sz="4000" spc="-1" strike="noStrike">
                <a:solidFill>
                  <a:srgbClr val="ed1175"/>
                </a:solidFill>
                <a:latin typeface="Arial"/>
              </a:rPr>
              <a:t>بسبب إملائك الضعيف ؟؟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32360" y="1125360"/>
            <a:ext cx="3898800" cy="3356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3898800" cy="3356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636480"/>
            <a:ext cx="8569080" cy="5816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000" spc="-1" strike="noStrike">
                <a:solidFill>
                  <a:srgbClr val="e96f2b"/>
                </a:solidFill>
                <a:latin typeface="Arial"/>
                <a:cs typeface="Bader"/>
              </a:rPr>
              <a:t>هيا نتعرف</a:t>
            </a:r>
            <a:br>
              <a:rPr sz="7000"/>
            </a:br>
            <a:r>
              <a:rPr b="1" lang="en-US" sz="7000" spc="-1" strike="noStrike">
                <a:solidFill>
                  <a:srgbClr val="e96f2b"/>
                </a:solidFill>
                <a:latin typeface="Arial"/>
                <a:ea typeface="Bader"/>
              </a:rPr>
              <a:t> على  بعض</a:t>
            </a:r>
            <a:br>
              <a:rPr sz="7000"/>
            </a:br>
            <a:r>
              <a:rPr b="1" lang="en-US" sz="7000" spc="-1" strike="noStrike">
                <a:solidFill>
                  <a:srgbClr val="e96f2b"/>
                </a:solidFill>
                <a:latin typeface="Arial"/>
                <a:ea typeface="Bader"/>
              </a:rPr>
              <a:t> هذه الأخطاء </a:t>
            </a:r>
            <a:r>
              <a:rPr b="1" lang="hi-IN" sz="7000" spc="-1" strike="noStrike">
                <a:solidFill>
                  <a:srgbClr val="f3192e"/>
                </a:solidFill>
                <a:latin typeface="Arial"/>
                <a:cs typeface="Bader"/>
              </a:rPr>
              <a:t>الخطيرة</a:t>
            </a:r>
            <a:endParaRPr b="0" lang="en-US" sz="7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877000"/>
            <a:ext cx="889308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0e500"/>
                </a:solidFill>
                <a:latin typeface="Arial"/>
              </a:rPr>
              <a:t>تعرضت أحد الصحف لمشكله كبيرة بسبب</a:t>
            </a:r>
            <a:br>
              <a:rPr sz="4000"/>
            </a:b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 خطأ إملائي .. فقد كتبت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..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425600"/>
            <a:ext cx="8351640" cy="5099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3192e"/>
                </a:solidFill>
                <a:latin typeface="Arial"/>
              </a:rPr>
              <a:t>فضيحة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الشيخ فلان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Arial"/>
              </a:rPr>
              <a:t>بدلاً من .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66ff33"/>
                </a:solidFill>
                <a:latin typeface="Arial"/>
              </a:rPr>
              <a:t>فضيلة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الشيخ فلان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627280" y="907920"/>
            <a:ext cx="2158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 كذلك في أحد المدارس كُتب في مجلة المدرسة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24720" cy="5016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Arial"/>
              </a:rPr>
              <a:t>يشكُر المُدرس الطالب </a:t>
            </a:r>
            <a:r>
              <a:rPr b="1" lang="hi-IN" sz="5000" spc="-1" strike="noStrike">
                <a:solidFill>
                  <a:srgbClr val="f3192e"/>
                </a:solidFill>
                <a:latin typeface="Arial"/>
              </a:rPr>
              <a:t>الباطل !!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وكان يقصد (</a:t>
            </a:r>
            <a:r>
              <a:rPr b="1" lang="hi-IN" sz="4400" spc="-1" strike="noStrike">
                <a:solidFill>
                  <a:srgbClr val="66ff33"/>
                </a:solidFill>
                <a:latin typeface="Arial"/>
              </a:rPr>
              <a:t>البـــطـــل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صديقي أنظر إلى أخطائي الإملائية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التي أتعرض لها دائماً .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8243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7:29:10Z</dcterms:created>
  <dc:creator>pc</dc:creator>
  <dc:description/>
  <dc:language>en-US</dc:language>
  <cp:lastModifiedBy>pc</cp:lastModifiedBy>
  <dcterms:modified xsi:type="dcterms:W3CDTF">2008-02-28T17:25:48Z</dcterms:modified>
  <cp:revision>9</cp:revision>
  <dc:subject/>
  <dc:title>بسم الله الرحمن الرحيم  يسر مدرسة النعيرية الأهلية للبنات  أن تعرض لكم  برنامج بعنوان</dc:title>
</cp:coreProperties>
</file>